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3D4-0B31-4B66-9610-29D75E13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A24-7F8D-4E88-A63C-775017C3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B29-9983-410D-9A5F-5F0498C8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773-71B9-465C-9A3B-55A08B0A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CCD-4BAA-4DF4-ABBF-81FD4229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58D-503D-4D20-B289-275845D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642-CF41-49A5-85FE-492ADB0F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85A-B273-4B60-9DF6-C7630F02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ABD-D4B6-4CA8-A80F-BE4DF6AE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8E9-299E-4A5C-B929-298A08C2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258-02F5-4512-A9D0-247E016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188-25D3-4C42-90D9-529A094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CDAD-8950-4009-A33F-A2BD3F76F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639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 readers notice sett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Erica\AppData\Local\Microsoft\Windows\Temporary Internet Files\Content.IE5\HM1LP184\MPj04366120000[1].jpg"/>
          <p:cNvPicPr/>
          <p:nvPr/>
        </p:nvPicPr>
        <p:blipFill>
          <a:blip r:embed="rId1"/>
          <a:stretch/>
        </p:blipFill>
        <p:spPr>
          <a:xfrm>
            <a:off x="1447920" y="114300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Erica\AppData\Local\Microsoft\Windows\Temporary Internet Files\Content.IE5\TR5FXXTK\MPj04365760000[1].jpg"/>
          <p:cNvPicPr/>
          <p:nvPr/>
        </p:nvPicPr>
        <p:blipFill>
          <a:blip r:embed="rId2"/>
          <a:stretch/>
        </p:blipFill>
        <p:spPr>
          <a:xfrm>
            <a:off x="4952880" y="1295280"/>
            <a:ext cx="251172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Erica\AppData\Local\Microsoft\Windows\Temporary Internet Files\Content.IE5\KLJG6L6A\MPj04365970000[1].jpg"/>
          <p:cNvPicPr/>
          <p:nvPr/>
        </p:nvPicPr>
        <p:blipFill>
          <a:blip r:embed="rId3"/>
          <a:stretch/>
        </p:blipFill>
        <p:spPr>
          <a:xfrm>
            <a:off x="1219320" y="3733920"/>
            <a:ext cx="2286000" cy="171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Erica\AppData\Local\Microsoft\Windows\Temporary Internet Files\Content.IE5\TR5FXXTK\MPj04305370000[1].jpg"/>
          <p:cNvPicPr/>
          <p:nvPr/>
        </p:nvPicPr>
        <p:blipFill>
          <a:blip r:embed="rId4"/>
          <a:stretch/>
        </p:blipFill>
        <p:spPr>
          <a:xfrm>
            <a:off x="3809880" y="3809880"/>
            <a:ext cx="1295640" cy="16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Erica\AppData\Local\Microsoft\Windows\Temporary Internet Files\Content.IE5\HM1LP184\MPj04365830000[1].jpg"/>
          <p:cNvPicPr/>
          <p:nvPr/>
        </p:nvPicPr>
        <p:blipFill>
          <a:blip r:embed="rId5"/>
          <a:stretch/>
        </p:blipFill>
        <p:spPr>
          <a:xfrm>
            <a:off x="5410080" y="3809880"/>
            <a:ext cx="23623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icing setting helps readers understand a sto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elements of setting ar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Erica\AppData\Local\Microsoft\Windows\Temporary Internet Files\Content.IE5\TR5FXXTK\MCj04325500000[1].png"/>
          <p:cNvPicPr/>
          <p:nvPr/>
        </p:nvPicPr>
        <p:blipFill>
          <a:blip r:embed="rId1"/>
          <a:stretch/>
        </p:blipFill>
        <p:spPr>
          <a:xfrm>
            <a:off x="6095880" y="441972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4191120" y="990720"/>
            <a:ext cx="1384200" cy="145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Users\Erica\AppData\Local\Microsoft\Windows\Temporary Internet Files\Content.IE5\UYLZ9YIY\MCj04355100000[1].wmf"/>
          <p:cNvPicPr/>
          <p:nvPr/>
        </p:nvPicPr>
        <p:blipFill>
          <a:blip r:embed="rId3"/>
          <a:stretch/>
        </p:blipFill>
        <p:spPr>
          <a:xfrm>
            <a:off x="1219320" y="762120"/>
            <a:ext cx="2514600" cy="19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C:\Program Files\Microsoft Office\MEDIA\CAGCAT10\j0234131.wmf"/>
          <p:cNvPicPr/>
          <p:nvPr/>
        </p:nvPicPr>
        <p:blipFill>
          <a:blip r:embed="rId4"/>
          <a:stretch/>
        </p:blipFill>
        <p:spPr>
          <a:xfrm>
            <a:off x="3962520" y="4267080"/>
            <a:ext cx="164772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C:\Users\Erica\AppData\Local\Microsoft\Windows\Temporary Internet Files\Content.IE5\KLJG6L6A\MCj03360550000[1].wmf"/>
          <p:cNvPicPr/>
          <p:nvPr/>
        </p:nvPicPr>
        <p:blipFill>
          <a:blip r:embed="rId5"/>
          <a:stretch/>
        </p:blipFill>
        <p:spPr>
          <a:xfrm>
            <a:off x="1523880" y="4114800"/>
            <a:ext cx="1905120" cy="193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:\Users\Erica\AppData\Local\Microsoft\Windows\Temporary Internet Files\Content.IE5\HM1LP184\MCj04392220000[1].png"/>
          <p:cNvPicPr/>
          <p:nvPr/>
        </p:nvPicPr>
        <p:blipFill>
          <a:blip r:embed="rId6"/>
          <a:stretch/>
        </p:blipFill>
        <p:spPr>
          <a:xfrm>
            <a:off x="5486400" y="762120"/>
            <a:ext cx="13795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C:\Users\Erica\AppData\Local\Microsoft\Windows\Temporary Internet Files\Content.IE5\UYLZ9YIY\MCj04282650000[1].wmf"/>
          <p:cNvPicPr/>
          <p:nvPr/>
        </p:nvPicPr>
        <p:blipFill>
          <a:blip r:embed="rId7"/>
          <a:stretch/>
        </p:blipFill>
        <p:spPr>
          <a:xfrm>
            <a:off x="6781680" y="1066680"/>
            <a:ext cx="1994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C:\Users\Erica\AppData\Local\Microsoft\Windows\Temporary Internet Files\Content.IE5\HM1LP184\MCj04352210000[1].wmf"/>
          <p:cNvPicPr/>
          <p:nvPr/>
        </p:nvPicPr>
        <p:blipFill>
          <a:blip r:embed="rId8"/>
          <a:stretch/>
        </p:blipFill>
        <p:spPr>
          <a:xfrm>
            <a:off x="7391520" y="4419720"/>
            <a:ext cx="6588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the story tak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the story tak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describe the place?  What are the habitat and weather like?  What plants, animals and other objects are in th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include such things as a city, state, country, castle, cottage, playground, ship, mountain, or stadiu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include clues that let us know it’s the afternoon, evening, the future, colonial times, or clock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include details that describe the weather, the noise level, or dark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1:58:17Z</dcterms:created>
  <dc:creator>Erica Hatt</dc:creator>
  <dc:description/>
  <dc:language>en-US</dc:language>
  <cp:lastModifiedBy>Erica Hatt</cp:lastModifiedBy>
  <dcterms:modified xsi:type="dcterms:W3CDTF">2008-12-16T21:13:01Z</dcterms:modified>
  <cp:revision>11</cp:revision>
  <dc:subject/>
  <dc:title>SETTING</dc:title>
</cp:coreProperties>
</file>